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62E-8BF8-4EA8-9572-841CF535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00F-A659-424D-9268-39348561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74A-DB5C-416C-85F6-AFD3D795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024-4308-4459-A7AD-4584D796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C9AB-E7E4-4FF8-870B-E56F0BD2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8906-C0BA-4B0C-99A1-856877C3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F87-E2D6-47C4-BF82-E7C2946E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8E81-6530-4D7D-B919-1BAEE1DA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CCEB-C8BA-4143-B43E-A998FF10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1865-8E36-4BA3-9FF7-8A5664A5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92D4-2EDC-4C30-82F1-0A593776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93A-18B8-4A52-B93F-4B85907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855-109B-4BB2-A686-ECC6A89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2EA0-D4BF-45DF-A4CB-C2D07F9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E474-DAFA-4B1A-9114-DE37FE6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FB89-C91B-4953-8EE6-7061D917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868F-567C-4F55-BCD1-32FC3C6D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A27-A62D-42A1-84F2-5E873DB0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1C9-10EA-4BCD-B1A8-D095BB3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412-A8DE-43C3-8D28-1D969F0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705-F3F3-45DB-AECD-9440B68D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519-85E0-4554-A9A9-45FD204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2C4-8844-4316-AD1B-CE35B8F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7C1-2629-49C1-AE49-3021310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4200-CFD9-46E7-B9E2-DC1AD4A958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B2EF-504E-408C-9E26-AD9567D125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Me llamo ___________ Clase 701</a:t>
            </a:r>
            <a:br>
              <a:rPr sz="4400"/>
            </a:b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a fecha es el 26 de febrero del 2016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5649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0000"/>
                </a:solidFill>
                <a:latin typeface="Verdana"/>
              </a:rPr>
              <a:t>Proposito # 51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Prefieres jugar o estudi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Verdana"/>
              </a:rPr>
              <a:t>L.O.- to review stem-changing ver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0000"/>
                </a:solidFill>
                <a:latin typeface="Verdana"/>
              </a:rPr>
              <a:t>Actividad Inicial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y and add letters to form complete 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 clases emp____z_____ a las och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sotros emp____z_____ a trabaj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 qu____r____ sacar notas bu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os nosotros qu____r_____ notas bu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los pref____r____ ser espectad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sotros pref____r____ ser jugad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657600" y="3532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800600" y="3502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Repaso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Stem-changing/ Boot Verbs E</a:t>
            </a: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E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forms of the verb change from “E” to “I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sotros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‘vosotros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“E” closest to the ending ‘-AR, -ER, -IR’ takes the “IE”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ez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feri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 Empiez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Tú Prefieres      Él 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Oval 3"/>
          <p:cNvSpPr/>
          <p:nvPr/>
        </p:nvSpPr>
        <p:spPr>
          <a:xfrm>
            <a:off x="2514600" y="3657600"/>
            <a:ext cx="457200" cy="457200"/>
          </a:xfrm>
          <a:prstGeom prst="ellipse">
            <a:avLst/>
          </a:prstGeom>
          <a:noFill/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7" name="Curved Connector 5"/>
          <p:cNvCxnSpPr/>
          <p:nvPr/>
        </p:nvCxnSpPr>
        <p:spPr>
          <a:xfrm rot="5400000">
            <a:off x="2479320" y="3463920"/>
            <a:ext cx="70200" cy="457920"/>
          </a:xfrm>
          <a:prstGeom prst="curvedConnector5">
            <a:avLst>
              <a:gd name="adj1" fmla="val -452061"/>
              <a:gd name="adj2" fmla="val 52635"/>
              <a:gd name="adj3" fmla="val -452061"/>
            </a:avLst>
          </a:prstGeom>
          <a:ln w="2844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8" name="Straight Connector 11"/>
          <p:cNvSpPr/>
          <p:nvPr/>
        </p:nvSpPr>
        <p:spPr>
          <a:xfrm>
            <a:off x="2209680" y="3962520"/>
            <a:ext cx="15264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9" name="Straight Arrow Connector 13"/>
          <p:cNvCxnSpPr/>
          <p:nvPr/>
        </p:nvCxnSpPr>
        <p:spPr>
          <a:xfrm flipH="1">
            <a:off x="2285280" y="3962520"/>
            <a:ext cx="1080" cy="762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0" name="Straight Connector 16"/>
          <p:cNvSpPr/>
          <p:nvPr/>
        </p:nvSpPr>
        <p:spPr>
          <a:xfrm>
            <a:off x="2209680" y="4952880"/>
            <a:ext cx="30492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5105520" y="3657600"/>
            <a:ext cx="457200" cy="457200"/>
          </a:xfrm>
          <a:prstGeom prst="ellipse">
            <a:avLst/>
          </a:prstGeom>
          <a:noFill/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2" name="Curved Connector 9"/>
          <p:cNvCxnSpPr/>
          <p:nvPr/>
        </p:nvCxnSpPr>
        <p:spPr>
          <a:xfrm rot="5400000">
            <a:off x="5146200" y="3463920"/>
            <a:ext cx="70200" cy="457920"/>
          </a:xfrm>
          <a:prstGeom prst="curvedConnector5">
            <a:avLst>
              <a:gd name="adj1" fmla="val -472164"/>
              <a:gd name="adj2" fmla="val 52635"/>
              <a:gd name="adj3" fmla="val -472164"/>
            </a:avLst>
          </a:prstGeom>
          <a:ln w="2844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Straight Connector 10"/>
          <p:cNvSpPr/>
          <p:nvPr/>
        </p:nvSpPr>
        <p:spPr>
          <a:xfrm>
            <a:off x="4876920" y="4003560"/>
            <a:ext cx="15228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4" name="Straight Arrow Connector 12"/>
          <p:cNvCxnSpPr/>
          <p:nvPr/>
        </p:nvCxnSpPr>
        <p:spPr>
          <a:xfrm flipH="1">
            <a:off x="4952160" y="3962160"/>
            <a:ext cx="1080" cy="686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5" name="Straight Connector 14"/>
          <p:cNvSpPr/>
          <p:nvPr/>
        </p:nvSpPr>
        <p:spPr>
          <a:xfrm>
            <a:off x="4876920" y="4952880"/>
            <a:ext cx="30456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7710480" y="3616200"/>
            <a:ext cx="457200" cy="457200"/>
          </a:xfrm>
          <a:prstGeom prst="ellipse">
            <a:avLst/>
          </a:prstGeom>
          <a:noFill/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7" name="Curved Connector 17"/>
          <p:cNvCxnSpPr/>
          <p:nvPr/>
        </p:nvCxnSpPr>
        <p:spPr>
          <a:xfrm rot="5400000">
            <a:off x="7654680" y="3387600"/>
            <a:ext cx="70200" cy="457920"/>
          </a:xfrm>
          <a:prstGeom prst="curvedConnector5">
            <a:avLst>
              <a:gd name="adj1" fmla="val -331443"/>
              <a:gd name="adj2" fmla="val 52635"/>
              <a:gd name="adj3" fmla="val -331443"/>
            </a:avLst>
          </a:prstGeom>
          <a:ln w="2844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Straight Connector 18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9" name="Straight Arrow Connector 19"/>
          <p:cNvCxnSpPr/>
          <p:nvPr/>
        </p:nvCxnSpPr>
        <p:spPr>
          <a:xfrm>
            <a:off x="7467120" y="3962160"/>
            <a:ext cx="108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0" name="Straight Connector 20"/>
          <p:cNvSpPr/>
          <p:nvPr/>
        </p:nvSpPr>
        <p:spPr>
          <a:xfrm>
            <a:off x="7461360" y="4952880"/>
            <a:ext cx="30456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actic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Verdana"/>
              </a:rPr>
              <a:t>I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rite the following sentence in the sing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emos jugar beisb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ferimos jugar en el parq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ezamos a jugar a las dos y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 hermanos quieren jugar futb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los prefieren jugar en el campo de la escuel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iezan a jugar al medio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5192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Verdana"/>
              </a:rPr>
              <a:t>II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 sentences by combining the words in each of the following colum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219320"/>
          <a:ext cx="8229600" cy="192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ezar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er 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gar al fut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lver al cam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t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zar el ba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Verdana"/>
              </a:rPr>
              <a:t>III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PIA y respon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ieren ustedes ir al parti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ieres jugar con el equipo o n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Cuando empiezan ustedes? ¿A las ocho o a las diez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Prefieres jugar o estudi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51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Quiz 3: Capitulo 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NDA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m-changing / Boot verbs (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cp:lastPrinted>2016-02-26T18:12:38Z</cp:lastPrinted>
  <dcterms:modified xsi:type="dcterms:W3CDTF">2016-02-26T18:15:39Z</dcterms:modified>
  <cp:revision>60</cp:revision>
  <dc:subject/>
  <dc:title>Me llamo __________   Clase 7IM La fecha es el 2 de diciembre del 2010</dc:title>
</cp:coreProperties>
</file>